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AEB-A424-433D-AAF8-B62F14156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042-69F9-42E0-B426-D6C1C25F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86F-188E-4BE5-A51C-D0E07440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1E0-61DF-4C15-886E-D7F2FAA4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F0B-4B41-4AEC-A25C-21135E6B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06B-2D9E-48AB-BF90-1177829C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BA5-18F1-4A8C-94B7-05CE7E32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E9F-F104-40D2-815F-9A3654E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5D5-3E75-4C26-8085-56DAD040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4F3-FD6E-491E-AE90-0D5AD552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C9C-AF8D-470E-A065-0F734CAE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2BE-DB18-40B9-BB8A-AB72FF8A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F82-3036-4F18-AA9A-8BF82107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3DC-70CF-4E2F-925C-0B17DE37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7666-A668-491F-B525-8D68578DF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менциј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рдана Тон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8845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уролош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окални неуролошк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вољни пок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сеудобулбар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дезинхибициони фено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флекс пу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жвак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ламоментални реф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флекс хва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к оштећења кортикалних региона, углавном фронтал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10-15%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менција реверзиби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умори моз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дроцефалу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овање лековима и токсичним матер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роничне инфекције мозга (сифили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прес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Т и МРИ нису ни сензитивни ни специфични-добри за искључивање других проц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ласифика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еуродегенерати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Alzeimer-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а 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vim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онтотемпорална деменција и д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е плус синдро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кинсонова 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гресивна супрануклеарна парали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обазиларна дегене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Huntington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Васкула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–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лтиинфар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а са субкортикалном исхемијском васкуларном болешћ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Инфекти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ролу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AID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екс дем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akob Creutzfeldt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гресивна мултифокална леукоенцефал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M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етаболичке и ендокрине демен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B1, B12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лна кисел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штитна жлезда, поремећај метаболизма калцијума, инсуфицијенција јетре и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чешћи тип демен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о 10% особа старијих од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cc00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99cc00"/>
                </a:solidFill>
                <a:latin typeface="Comic Sans MS"/>
              </a:rPr>
              <a:t>ритеријуми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епен поче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нтинуира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д когнитивни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ун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мећа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у социјалном и професионалном функционис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ремећај памћења за скорије догађа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језичких фун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блеми са налажењем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оремећај пракс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блем визуелног процесу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зуелна агно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конструктивн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егзекутивних функција (апстрактно мишљење и концентрациј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дефекти нису последица друг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сихијатриј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неуролош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 системск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поремећај се не јавља искључиво у склопу делир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8472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тски утиц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-2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одичних случајева, око 5% се наслеђује моногенски, аутозомно доминантно са мутацијама на хромозомима 1,14 и 21 - ранији поче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олипопротеин Е учествује у транспорту холестерола у мозг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E2, E3, i E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иоци апоЕ4 су у већем ризику (2-3 пута хетерозиготи, а 5 пута хомозиготи) да оболе од А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Женски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њак образов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ума гл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и фактори риз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у средњем животном д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ислипид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коронарн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ијабетес тип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нсулинска резистенциј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 болест патологија и 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убитак неурона (фронтални, паријетални и темпорални режањ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ритичан је губитак синапси на почетку бол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 болест патологија и пато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уропатолошки на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нилни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милоид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алко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– у ванћелијском простору мозга са структуром коју чини центарлно протеинско језгро састављено од фибриларног протеина -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ета амилоидног пепти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ружено дистрофичким нервним завршециј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урофибриларна клуба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унутар самих неурона, парни хеликални филамент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иперфосфорилисаног тау протеин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прво у структурама хипокам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емен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еч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ерзистен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гресив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когнитивних фун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ступање од претрходног нивоа (богаташ који је осиеромаш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ремети социјални и професионални живот боле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 болест  пато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у различитим неуротрансмитерским систем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цетилхо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епинеф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п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ро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ептидни трансмитер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Клиничк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28592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иње неприметно, шуњајуће, траје 8-10 год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гнитивни поремећај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ремећаји памћења за скорашње догађа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борављање договора, несећање и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ена вербална комуникација и флуентност го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ће у налажењу речи, афазија, мутиз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днопросторна орјентација-затурање предмета, несналажење у познатом про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тикални поремећаји.апраксија (облачење, лична хигијена, оброци), афазија и агнозија (непрепознавање блиских особ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оћ другог 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сихијатријск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пресија са несаницом, анксиоз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ануте идеје (поткрадање и невер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идне халуц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ремећај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и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ремећаји дневно ноћног ритма сп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лутање ноћу, психомоторни немир, аги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завршаном стдијуму везани за кре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генерализовани ригор, мутизам, инконтин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се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еухрањ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ремећај рада срца, емболија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скључиво клиничка-нема специфичних симптома или зн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ма специфич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лабораториј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урофизиолош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радиолошких тестова или метода за дијагн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 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имптомат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хибитори холинестераз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rivastig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onepez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агонист НМДА рецептора-меман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депрес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психотиц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повремено и привремено након свих нефармаколошких 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ксиоли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конвулзивн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еменција с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Lew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jevim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тел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Lewyjeva tela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клузије у неуронима коре и субкортек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ле 60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поремећаји + поремећаји поншања + паркинсонизам унутар обично годину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памћења не морају да буду присут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менција са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Lew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jevim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тел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пат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шкоће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 разумевању сложених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шавању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меравању паж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сторна дезорј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ажно препознавање ос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рбални блок-губитак мисаоног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луктуација тегоба –периоде луцидности смењују периоди конфуз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не застрашујуће видне халуцина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Чести пад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рапија – инхибитори холинестер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типични антипсихо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ронтотемпорал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10%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свих деменција са почетком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ре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трофија темпоралних и/или фронталних режњева, асиметр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лиоза, губитак неурона, балонирани неурони са цитоплазматским инклузијама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бнормални тау проте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емен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гнитивн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днопросторн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мене личности и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руге когнитивне способности (апстрактно мишљење, рачунање, просуђивање, планир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ронтотемпорал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2855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пора прогресивн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улим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пушт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мећаји говора (афазија или понављање-ехолал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моционална дезинхибиција, раздражљив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У раној фази израженији поремећаји понашања од поремећаја пам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Васкулана дем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линички хетерогени син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ми инфаркти на ЦТ или М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шеструки изненадни неуролошки дефицити и степенаста прогрес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апоплектиформна демен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аскула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е деменци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улти-инфарктне (кортикалн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убкортикалне исхемичке васкуларне деменциј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inswa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атус лакунар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менција изазвана стратешки лоцираним  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оперфузион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менција због специфичних артериопа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шовит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и благи когнитивни поремећа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рапија- као код АБ+антиагрегациона и 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Инфективне демен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онске болести- спонгиоформне енцефалопат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reutzfeldt Jacob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пидно прогресивна дем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и памћења, афазија, тешка деменциј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оклонус (трзајеви појединих делова те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рамид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ични стрми таласи на ЕЕГ-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трапирамид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ребеларни зна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а варијант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- не посто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лаги когнитивни поремећ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когниције који не ремети активност дневног 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вод у демен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ки облици никада не конвертују у деменц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амнест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неамнести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носимптомат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лисимптомат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рсте памће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посредно упамћ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2.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раткорочно 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угорочно 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епосредно упамћи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радна мемор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личина информација које појединац може да задржи у свести без активног напора упамћивање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7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ројев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фокалне лезије горњих делова фронталне к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Краткорочно пам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државање и могућност присећања специфичних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кон периода од неколико минута до неколико сати (3 речи након 5 мину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дијални темпорални режањ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ипокампу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Дугорочно пам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уго познате инфо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окортекс, дифузне лезиј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окортикалних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амнеза и хетероанам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рзина и редослед појаве когнитивних дефицита и поремећаја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штећење социјалних функција (А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пште здрављ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левантне болест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Б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вреде главе, лекови, породична анамнез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МСЕ - орјентација у времену и простор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амћење, серијско одузим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говор (разумевање и извршавање вербалних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исаних захтева, понављање реченице, писање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рецртав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30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ње од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умња на демен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ст цртања с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 Co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23:38Z</dcterms:created>
  <dc:creator>Goca Toncev</dc:creator>
  <dc:description/>
  <dc:language>en-US</dc:language>
  <cp:lastModifiedBy>Gordana Toncev</cp:lastModifiedBy>
  <dcterms:modified xsi:type="dcterms:W3CDTF">2020-09-26T09:11:03Z</dcterms:modified>
  <cp:revision>49</cp:revision>
  <dc:subject/>
  <dc:title>Деменције</dc:title>
</cp:coreProperties>
</file>